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5F5E-6724-427E-9812-9AFA44DCE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00D-065F-40A1-B170-204DB316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DFD00-EC27-4271-B480-38DF231F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7B524-D3DD-43C7-B5ED-9EFBBCD65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4598A-DA85-4B61-A7BB-0161FE0B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C2224-6AF1-4AD0-908B-2EB13E13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7D200-739F-4E74-994B-15186A30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45DB5-31B8-4CD5-B631-A47B753A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BB5B6-DCC5-42AC-B560-E803FB8E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4D884-3129-4252-8C32-33E0D703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457E3-5107-4346-9CF1-3333BE82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F61FA-982A-4A1C-AD5B-FEB1FF4E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0BED-21E2-4D44-A73F-CF2C52AC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8F094-1E51-4355-88A7-74F1EBE9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9891D-F749-45EF-9C10-894542D0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B3ED6-38A7-4460-BA58-4291DFE9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F87BA-DEDF-421E-A7B8-59145032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7C28F-2CEB-4305-B242-A5604E58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1C497-2B01-414E-A0DA-D90C2B96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574FF-E7BC-4DA0-A74A-BFA9C449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E2DA5-B435-4B32-B439-B83715E1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EA4BD-0C1C-49D0-B4BB-EAE90DB5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A277F-4A13-4E22-AFAE-47DAE91E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FE9E-34AD-4407-903C-707BD813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8E4D7-4577-4C94-A1C7-418E7D3C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7F18D-4A33-4F5F-A143-BAEDEA19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0F355-2CD9-42D2-9A2D-61764A9E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9F7A4-DB4C-497B-8EF5-883F60C0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2AEEE-BC3E-4787-97E6-B3496884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91974-BE8D-49CD-8AFA-B54E34CE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057E4-5612-4B25-954C-C61206EB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A0FB71-6F4C-48E7-9283-87E5744A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06001-551E-4AC9-BA08-65F6DFAE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065F7-F9D5-4C66-B4EB-9C465721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4052-D3A4-4914-AAF7-BA6B7EBF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F3C9B-9630-49E8-A3E5-551218AA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147CD-179E-4BE0-BB9A-6F3632D7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25A61-A13D-461C-ADCC-83848B2F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008A2-D78C-44A1-A475-7F3AD4CA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05DE6-462D-4E59-93A8-8DF8A259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D8C26-E0BF-4266-9581-F96DD518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78E70-0C97-40A8-8E2F-1F0FB2B6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1F2AEA-86E4-4DB8-92AF-BF74F4D6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DB50E-2261-45F1-9846-5480BD63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725FE-BDA7-4185-B86B-300FE344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0987-7A3F-424F-BE46-209808C5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9565B3-8775-4A0A-A45A-6D40FA7D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FD8C5-9943-4F44-B23C-C67EF6C5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93E3B-6720-4A9A-8450-CC364AD1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6CAF7-F335-4679-9724-C5BE35DD7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92A06-A1D1-45AF-BDF0-04707EAB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9EF2A-2303-4C0C-8C41-A905A2DA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2D7A81-E258-42B8-AC8E-0D2C75EE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245DB4-1AD4-445C-BF3D-A49DC9C6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81F887-2B78-47C0-9B84-C321F9AC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607D6B-C946-4867-A9B4-4F93566E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C5BD-B998-4D8F-AF6E-251CF025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8F4D8-020C-4CDF-A36B-142F61FD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D1F00-06D0-4D58-8353-DF4AFF9D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AAB6FF-D80D-47F2-900F-882AD054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EC29B-7901-4E23-884B-9314866B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586C6C-522C-438E-A79F-312E7E3B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8100D-66D1-452E-9605-0F738F41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29C274-BE41-477C-87D3-6213C699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F5F9BA-CACA-4E64-9251-FCDA2697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DB58E9-B5FD-4E74-8F07-224D3E8E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D62583-1749-4974-A407-FE48D8C2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A123-FCD1-4AD2-A13B-63FBF199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B4020-CD67-44A6-955E-D6CF3F1B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59C081-8E67-43BC-BC87-3FBE14F6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42ADDD-BB9E-40A6-9AC2-F263CAB1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4C1F69-FFF4-485F-AFCF-8F90D918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C82F3-4014-4354-9FFC-63CD6DFD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830AFD-EDBE-4F96-9266-8CC1228A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E5E856-F83F-4DDE-BDEC-3F073D51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241B3D-523D-4B34-B98A-073BF9E1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34C654-6118-4FAE-865A-C0631276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318B50-3545-4FD6-BD9A-F00B7F39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38B0-A31B-4535-9ED6-111A804A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276F6B-B60E-4B69-8506-819B8549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43DD27-E3A3-483F-B4D4-FDAF2B6E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1444C8-9F51-4246-B710-64E1B15F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30FC00-6A6B-44DA-B932-C4DA1E8B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4706BE-B742-41D9-8242-DC2B61E0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DAE9ED-7998-49B5-B5B2-DC7BFF63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43CE4B-02AB-4A06-A4D8-883B6E41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62BCC1-3C4A-4320-9BFF-26164A31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697DEB-5959-4879-A884-7D6D10E7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153388-FCF1-4826-9399-A4E5A397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39DB-87CF-4303-B6E2-A2A2734C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E204D1-27C6-4046-BE4F-5FBFA1B36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00EE0E-1D70-4D37-85EB-492C426F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13CA02-AA0F-4827-BC05-7978ACA4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6B0370-8719-4039-97F1-527F7BE0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FEA252-A6BB-4C59-A471-C7565029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A5F864-F72D-4703-BF85-DB84A8BF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B540D0-25A4-45A9-909E-74C2271F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A9CBA1-730E-43E7-AF20-B9359FAF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3A63B9-CEC9-4FF1-941D-18DBE370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A23C64-367F-468D-95A8-D3CDFA7C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E74D-2611-45B9-8CD0-B5F5ECF9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A982E4-F417-4968-B4B3-0C080832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E2766E-4AE3-4C05-9F7E-944D2DA78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6F0AA2-086D-4433-82A5-D1DD2A37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E7FAA9-96C1-4029-BB14-5F0367C8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C2BE64-8DD5-4B64-BF47-BFBACAB9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BC9A07-987F-4108-B0C8-411C0325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FCE7EC-0D18-4B7B-9C15-B8F2D65E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6DF217-97A4-4B2C-99D5-2FDEF6A4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9F1AAF-5636-465E-9E21-840CFC34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84AB21-A9C2-4635-AAFB-5009722E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708A-9ADE-4B20-A09E-E5C441E0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42FE-2A0C-4156-A46A-B835CAB9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85797B-BBA8-41E2-9E05-B9033C3B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3CDE55-F983-4023-9B00-CE5B3C07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BD00C1-FC81-4F64-8A4C-EB87274D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94613F-7CF9-4372-B1B0-579BE918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C11879-BF5A-458D-8945-9D06EE34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76F44A-902A-4D7D-938E-6D8275A9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569C5A-0F2A-412E-B500-6F0EDB3C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43FC79-922E-4B8D-AA7D-3A4F62A0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35CF51-0658-47E6-919E-1E5A12C2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3C26DC-1B96-4954-91A9-A049B200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FD45-560A-41A6-B75D-5F6082AB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4976C1-06E9-4830-866C-011A324F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0F4B4A-31DF-4ACA-BAF4-9110975E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D169A2-DF38-45F1-8868-D2348DB5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EFD020-6411-4479-AB59-BC96E00C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31FDCB-000C-4E7C-A255-0A2D9BDF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255711-8C1D-4B28-9AD4-4D9FC298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0D5BA9-C3DB-4657-A2EE-6191DF57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58DD7C-8B57-47F0-898E-E0853C2FB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FEEB04-B515-428F-88F6-F95E21B8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95CD82-5D27-4CE9-981C-79655711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39848-A897-43BD-9CCB-6EE94BD7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529500-D373-4FE0-80B0-7ED8D0C4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46358D-66E6-4426-8B14-95092CC3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728C66-545D-417E-AC02-5B5FED3B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B95B21-2976-4BA9-BB1C-856ACFDD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715113-CF32-4194-B211-796CE995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9911ED-893E-4647-B85A-146F7396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FE556E-624F-40E1-9CF0-69A6B307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91AE14-51F2-4135-85E4-4FBD3237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A3281E-EF62-4F76-9701-325A40F1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C257EC-BC76-4F10-B01F-5457696B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14CB-5670-4E11-A5A0-CAB163EA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46CBD1-A41E-4F5B-803F-A4FC2C6F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BEE9F9-493C-4562-938E-F12D40F3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46C468-1E73-454B-B98C-0E5939C9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BDA70C-E952-4DB6-88CE-1BE8482F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33B112-FCA0-4B95-B696-6CD0A049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3D61B2-EAC5-42B6-9B51-97F296E0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EDA6F1-C77F-43BA-A1AA-DA17357B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21AC56-F3EF-4A6B-A494-EBA89D62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2C5BA6-92B4-4A03-8041-D4CE04BC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DBA563-A837-45F8-9859-43DE2787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A751-F7D4-415C-8468-C1D4D50A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029B9D-7E00-47E5-91D1-77E76477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7F284D-E49C-42A1-BCD4-1EFD089E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9E1718-451C-435D-80F3-23FE547B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568962-50EE-409F-9979-3E61C1E4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5E88FA-5BDC-4F7D-987E-EE19FEBA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8FEAA7-3090-419D-BF0E-C5121111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2BCDB7-68EE-4840-AA76-5CE1A3ED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16CBD0-A34F-4202-8612-38894FC6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CFC1DC-0708-4A4C-9553-3B22F692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3B3870-5FFA-4392-96B7-65455AF8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98CD3-A5D9-402F-AAA0-14A75A0C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B024FC-F0DF-4623-96F1-3A9F9A82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10100E-C26B-46FE-9714-AD960994D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D22022-04C2-4ECD-8DE5-EC350503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4B778-4829-42FD-A43B-08313FBA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3A7BC-79D0-47EE-85DB-D64463ED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C45F4-2834-4D45-8BDB-33587A50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D1DBA-9A30-41A9-98FD-5059E335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6994-F7DC-47D1-AA8E-E4DE0233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59001-33D1-46AF-AAB1-EFA88651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12D36-F7CA-4DCF-BAB0-772E5A96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82D03-2776-485C-98F3-94C6EB7A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2A49B-1840-4D0F-8E9B-D5EE8BC1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AABD6-BB2B-4825-8286-C6232DFB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91834-8631-41FD-9D7A-AA0BF7A9F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64CF0-8704-4E9D-B9C7-B14A51D8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1E55D-AE17-412C-840C-C15E1BE4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4E3CD-1F58-4D83-88EA-13DEDA40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F1143-A1E1-40A6-AC5A-4EFCEF98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0B8D-31B8-436A-9271-4A05A17D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BA1BA-0712-418B-9D39-1D32E177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CE0E1-B40A-4862-BC5B-529911ED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E5830-E80C-4553-8B6B-B1DCDF71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63999-F678-4ED5-8999-15CEC4EB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58ED4-8587-484C-9C1C-14A32472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83B1C-F856-4BAA-B207-F9F534CC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FC65E-A67C-457B-99D2-FA64F9E9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2F15D-BC11-48DA-BCBA-4873795B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47ABA-DB05-4441-8E94-31F6F84F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32B56-A36B-4D0D-83F7-30544B1C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4242-9AF1-4718-90EF-0AC019A3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041D5-5ADE-4788-AB4D-98D2577D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69273-1892-4EA9-9FE0-306CC337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989BB-D9C1-4F3C-A9A3-57C6BCCA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5825F-5FF3-455E-A19C-AE141F2F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DF620-ACE7-4CF2-A39E-4AC53A60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831AA-51BB-47EE-8BB0-0A1D8220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12548-A898-4125-A4BD-75911F32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9F54B-981E-4A50-9EAB-9DC5DA1A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6710B-0968-445E-8FFF-88B80F26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380C9-3674-4AEE-8438-BE05181D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59B-022B-4A9A-B004-CF9752B5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C40E4-196F-4D6A-9E7B-7A730A55D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6D255-1EFC-4834-BBE6-405DED18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529CB-1685-4333-B677-60C7F869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C059F-2754-4590-B723-40870CC0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D7F1B-AB30-443B-9618-42C908CC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EA6FE-4740-4432-A0AB-C023EEDB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FE221-04FC-4B1E-91E3-8C38BEF0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B8FCC-B75F-4748-92EE-EF4D80CE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55217-8593-4F9B-B0BC-0E68D24F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E60D6-16EC-4E49-8F5E-D75D4EE4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EA7D-C274-4BC8-9ABD-B7444410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95DA5-A9D3-4DF8-8308-278C30C5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90134-BD0E-4D2B-93E2-1F94D3B5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49AA1-0274-47F8-8270-6EED1A480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4A6A2-4233-4EB4-B6A3-C6B24061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98343-4BBA-4272-9E95-60E59E33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CF653-E328-4591-994C-66662906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DB15C-E350-4D14-8801-7A560C35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002E7-3B6C-4C6C-ABF9-A8346551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E74FE-0B58-4995-98B4-8A37DBE7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E4BFE-FD28-4F6C-A63F-AA18A1C1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F7A3-1CB9-4848-B2A4-DE10D453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E7F2C-F472-4DEE-ADFC-00AE4355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DF4F4-452C-4E99-9148-AB8F6FAE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C7491-9941-4D5F-88E6-1C7BADB4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9B13D-6351-4E1D-A6E7-D8EE82F2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4C146-0808-4688-97F3-D2BC2BD3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63126-CD45-4F8D-96BB-6AF22F22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9AE01-DFDF-4D02-B1C6-73EAAF05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B1C42-3670-4028-9D74-594B2649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40197-F31A-4493-91CF-394EC3B2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8F6E6-F016-499F-9EEC-4733EAF7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519-8F04-4E8C-AEC6-2F91AC16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19744-E16E-4E32-B509-86F3EF55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F1F4C-776E-420B-9088-F265BA31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45262-7B4F-44B8-94FB-2EC41984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AB76D-9A45-4A1B-A4DC-938D6B1F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6D73C-840C-41CE-8BF5-02AA642A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1E8E3-F2AF-4A0B-B34C-8556F4D8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2D7A8-2DD2-4F70-9015-3D96211C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943D5-862A-495E-B011-69213872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F54C4-B447-4416-8312-319FA1C3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B306E-2DFC-4A6D-B544-000289C7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720A-28A2-4379-82C0-A0AD48523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BF28-9F0F-412D-8AE0-705CFEFAC9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C17A-06D2-4E22-AE00-2B507E0B70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667C-3CF7-4301-B232-236140BF39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5EF6-856E-431B-BA7C-6A0557E64B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D9CD-8631-4448-880B-56E08DD351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C2CD-76A7-4EC3-A46C-BBF24432DD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F841-9C02-4092-B723-09424DB1A0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F3D5-B79E-4FFC-A6CC-25A28A4F15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8AE8-D534-4192-BCDF-A82022D9B0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2CF4-6823-4D9C-9123-22F48BB565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7CD4-ECAB-41EB-BAF2-EAA6D4045D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5B27-175E-4171-8CBF-D2C34B3F8E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B6C2-7FC8-47C6-96F6-C585846498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0489-6239-4D43-AB41-1F05BB573D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2C89-651C-499D-8D6F-4E29B156A8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F316-0E47-43BF-A2F4-7030D789F3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C7EE-E9CD-4D33-AD82-2190911DBA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982D-9AB5-4C81-8C47-2C6B21BCC4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A98D-7A67-4080-9E0B-00696F7E58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CE78-64AA-4F27-9F8E-FCA8351E01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E158-D69B-489D-8EC5-A8F3EFBE74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4631-E72C-451A-BE8B-018409B09D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9FA0-9C9D-44D8-9406-C3B3CA916E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233C-4869-46CA-84AF-0E2398A518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CB46-58F2-4088-A6A3-CAA839898E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4699-7D3B-4604-A888-5619431394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D945-6094-4137-8AD7-D4CBA38D7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3640-6395-44DE-926C-149BCE2BB7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8E14-5045-41BE-8020-50684B6B19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CBB1-3E5D-4D43-AC54-31D7A39E3B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6C36-93B3-498D-8938-7F492DB66E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3F4E-5B22-4A95-9E42-F8DA76F0F0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155E-CC80-4F1F-97A2-F6A1F34F68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07FA-5FFC-4287-8742-EB909A7E2D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D4DB-F1C5-4D08-A44C-EADDBD7D4A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3268-AD6F-4FFF-988D-C4C87BE932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2965-4140-40F1-A292-7C8BA096BA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1E1A-7347-463A-A03A-757BA187CB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BF02-0536-4D05-B046-0AC630E780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58680" y="3105000"/>
            <a:ext cx="90266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385920" y="942840"/>
            <a:ext cx="8370720" cy="49723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1332000" y="15415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332000" y="306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332000" y="458136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152280" y="1585800"/>
            <a:ext cx="8839440" cy="3686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1116000" y="3141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1116000" y="42210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104760" y="843120"/>
            <a:ext cx="8934480" cy="5171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1042920" y="34718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1042920" y="502776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857160" y="2938320"/>
            <a:ext cx="7429680" cy="9813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176040" y="2419200"/>
            <a:ext cx="8790120" cy="2019600"/>
          </a:xfrm>
          <a:prstGeom prst="rect">
            <a:avLst/>
          </a:prstGeom>
          <a:ln w="0">
            <a:noFill/>
          </a:ln>
        </p:spPr>
      </p:pic>
      <p:pic>
        <p:nvPicPr>
          <p:cNvPr id="1050" name="图片 8194" descr=""/>
          <p:cNvPicPr/>
          <p:nvPr/>
        </p:nvPicPr>
        <p:blipFill>
          <a:blip r:embed="rId2"/>
          <a:stretch/>
        </p:blipFill>
        <p:spPr>
          <a:xfrm>
            <a:off x="770040" y="3833640"/>
            <a:ext cx="8194680" cy="5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2:25Z</dcterms:modified>
  <cp:revision>3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